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projctor.wav" ContentType="audio/x-wav"/>
  <Override PartName="/ppt/media/image9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61B-B2FD-40E7-8FE7-E39BE42C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220-A00B-4F35-9389-BFF51F07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DA6-13EC-43E1-BDAB-3CFF735C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3E3-B684-412D-8FB8-947E0990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262-39D8-4203-88D4-E355625F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055-4961-4750-8C82-C7E1DA20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045-2731-4F42-9FA2-E572CAD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25F-82B0-412A-B5DD-C7FB9C2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E96-901B-461A-8F24-BFE40EB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8A3-652E-4099-BB23-FA03E8F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853-C8A3-44DA-92F0-0954B7E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095-FE3F-475B-8497-E7F761F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DB7E-3E88-42E7-A998-3192F67C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ex.rang.k12.va.us/waddell/special/images/drums.gif" TargetMode="External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dc.ca/BOY%20READIN%20BOOK.GIF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cnicpeople.com/gif/horse.gif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pemelroti.com/hello.GIF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rver.saline.lib.mi.us/sbfg/images/barn.gif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Primer Dolch Word 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ulie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495680"/>
            <a:ext cx="2582640" cy="2000520"/>
            <a:chOff x="3276720" y="4495680"/>
            <a:chExt cx="2582640" cy="20005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276720" y="4495680"/>
              <a:ext cx="25826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2160" y="5029200"/>
              <a:ext cx="114264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he drum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419720"/>
            <a:ext cx="244620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ook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41911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ike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d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he hor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343400"/>
            <a:ext cx="2171520" cy="2228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t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i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“Hello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114800"/>
            <a:ext cx="182592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ar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495680"/>
            <a:ext cx="29145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ign is r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1406520" cy="1946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m wrote on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pap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60020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ree is t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30356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55:32Z</dcterms:created>
  <dc:creator>jctc</dc:creator>
  <dc:description/>
  <dc:language>en-US</dc:language>
  <cp:lastModifiedBy>jctc</cp:lastModifiedBy>
  <dcterms:modified xsi:type="dcterms:W3CDTF">2001-09-14T17:58:57Z</dcterms:modified>
  <cp:revision>2</cp:revision>
  <dc:subject/>
  <dc:title>Pre-Primer Dolch Word List Part 4</dc:title>
</cp:coreProperties>
</file>